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CDF-72D0-4CBF-8D84-1A35CC74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332E-DD99-498B-86E0-52162520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E8E-FEB9-4475-B2AB-A9BEA0D6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325-C43D-4C30-84E8-846731C3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376C-9D88-4627-84F2-34772BD7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1999-489A-4A68-8EBB-AD9E9DD3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747E-8D2D-475E-B32D-85297432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EEDB-875A-42ED-8EAC-65CB617F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DDC3-C2AB-444C-ADB4-A5567AAF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0135-7C62-4217-8E44-656D4B7E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DBF5-8B3E-4A9E-ADD1-D1C038E9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47F-F21B-45FB-80CE-3BA1D4F3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D843-E12D-4A2D-8137-9F6D9A68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E8E0-62E1-45C0-A533-6EA5C54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E721-BF96-436C-B754-640F2AC6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DB9B-CAB0-4C1B-8A1D-FF41A917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1513-98E7-4943-A43E-88378566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BA1-4AF3-45C0-91FC-9EFD61A1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7B9-5426-4959-BC9B-BC9AF424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6CAD-17CE-440C-98FC-8B24570D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19A-6775-4E63-8496-2D9C88DE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0D7-1C70-4010-BA9C-296FAEB6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769-0A88-4E41-A2AD-3F10A72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8F6-2A13-4B9D-BC87-BD26991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A004-DAEA-497C-A1D8-5C0B76117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ffff99"/>
                </a:gs>
              </a:gsLst>
              <a:path path="rect">
                <a:fillToRect l="50000" t="50000" r="50000" b="50000"/>
              </a:path>
            </a:gradFill>
            <a:ln cap="rnd" w="93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5848-D0F6-4466-BC98-97EE423D9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505764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08280"/>
            <a:ext cx="845820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ZENTÁCIÓ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AF (Közös Értékelési Keretrendszer) KUTATÁS EREDMÉNYEIR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797960" y="404640"/>
            <a:ext cx="1049040" cy="151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10880" y="549360"/>
            <a:ext cx="499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árom Város Önkormányza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ÁROP 1.A.2/A-2008-00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A MUNKATÁRSAKKAL KAPCSOLATOS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saját elégedettségüket (vagy elégedetlenségüket) megalapozó eredményeket vizsgált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9, mely a Tervezés – Megvalósítás – Ellenőrzés – Beavatkozás rendszerében a Megvalósítás szakaszára tehető. A mért eredmények stagnálnak, és/vagy néhány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50920" y="3500280"/>
            <a:ext cx="4897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8. TÁRSADALMI KÖRNYEZETRE GYAKOROLT HATÁSOK EREDMÉNY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t el a társadalmi környezet elvárásaival összhangban (az élet minőségére gyakorolt hatás, a környezet és az erőforrások megőrzése, a szervezet saját hatékonysága, stb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 kritérium átlaga 56, mely a Tervezés – Megvalósítás – Ellenőrzés – Beavatkozás rendszerében az Ellenőrzés szakaszára tehető. A mért eredmények javuló tendenciát mutatnak, és/vagy a legtöbb kitűzött cél teljesül. A 8.2. akritérium eredmény (63 pont) kimondottan magasnak számí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51134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ALAPVETŐ TELJESÍTMÉNY CÉLOKKAL KAPCSOLATOS EREDMÉNY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lyen eredményeket ér el feladatai és célkitűzései tükrében, továbbá mennyire elégedettek a Hivatal eredményes működésében érdekelt szervek és személy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3789360"/>
            <a:ext cx="370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5, mely a Tervezés – Megvalósítás – Ellenőrzés – Beavatkozás rendszerében az Ellenőrzés szakaszára tehető. A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50403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5400720" cy="2530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211640" y="4317840"/>
            <a:ext cx="48182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ÖSSZEGZÉ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5040360" cy="2490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211640" y="4297320"/>
            <a:ext cx="47545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0" y="2062080"/>
            <a:ext cx="49053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CHMAR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6108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299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ÖSZÖNÖM MEGTISZTELŐ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ŐZMÉNY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őző kutatás – 2005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rvezetfeljesztés – teljesítményértékelés – C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önértékelés résztvevőinek kiválasz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tatás a kutatásban résztvevők számára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2010.02.23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AF kérdőív kitölt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KÉRDŐÍVEK FELDOLG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84978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Átlag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ok számtani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Szórás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32 kitöltő munkatárs által adott pontszámok eltérése az átlagtó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n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alacsony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ximum érték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legmagasabb adott pontszá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53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Times New Roman"/>
              </a:rPr>
              <a:t>Értékelhető válaszok száma: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32 kitöltő munkatárs közül azok, akik konkrét, számszerűsíthető pontszámmal értékelték az adott alkritériumot (a 0, a kitöltetlen rubrika, az intervallum megadása nem értékelhetőnek minősü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908000"/>
            <a:ext cx="70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Feldolgozás számszerűsíthető eredménye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VEZE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vezetők miként határozzák meg, fejlesztik a közigazgatási szerv küldetését és arculatát, hogyan fejlesztik ki a hosszú távú sikerhez szükséges értékeket és biztosítják azok érvényesülésé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4895640" cy="28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92720" y="3573360"/>
            <a:ext cx="3706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kritérium átlaga 38, mely a Tervezés – Megvalósítás – Ellenőrzés – Beavatkozás rendszerében a Megvalósítás szakaszára tehető. Tehát a vezetés megalkotja a megfelelő intézkedésekre vonatkozó terveket, dokumentumokat, az intézkedések végrehajtásra kerülnek, de a felülvizsgálat, hogy a megfelelő intézkedésekre került-e sor – részben elma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STRATÉGIA ÉS TERVEZ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hajtja végre küldetését és valósítja meg jövőképét az érdekeltekre összpontosító stratégia útján, a releváns politikák, tervek, célkitűzések és célok segítségé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3645000"/>
            <a:ext cx="37069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PDCA ciklus értékelési kritériumait tekintve a Megvalósítás szakaszra esik. A kapott eredmény azt mutatja, hogy a hivatal rendelkezik a megfelelő intézkedésekre vonatkozó tervekkel, dokumentumokkal, az intézkedés is végrehajtásra kerül, de a szükséges ellenőrzés már nem történik me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5040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EMBERI ERŐFORRÁS-GAZDÁLKO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irányítja, fejleszti és aknázza ki a munkatársak tudását egyéni, csoport és szervezeti szinten egyaránt, valamint saját politikájának megvalósítása és a munkatársak hatékony munkavégzésének megvalósítása céljából hogyan szervezi a rendelkezésére álló erőforrá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3573360"/>
            <a:ext cx="3706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7, mely a Tervezés – Megvalósítás – Ellenőrzés – Beavatkozás rendszerében a Megvalósítás szakaszára tehető. A hivatal HR gazdálkodásában jellemző, hogy rendelkezik a megfelelő intézkedésekre vonatkozó tervekkel, dokumentumokkal, a szükséges intézkedések is végrehajtásra kerülnek. Az ellenőrzés folyamata viszont nem történik meg, nem vizsgálják felül, hogy vajon a megfelelő lépéseket teszi-e a hivatal az elvárt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5113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EGYÜTTMŰKÖDÉS ÉS ERŐFORR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miképpen tervezi és kezeli kapcsolatait és belső erőforrásait politikája és stratégiája támogatására, valamint folyamatainak hatékony működtetése céljábó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78936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39, mely a Tervezés – Megvalósítás – Ellenőrzés – Beavatkozás rendszerében a Megvalósítás szakaszára tehető. A hivatal rendelkezik a megfelelő intézkedésekre vonatkozó tervekkel, dokumentumokkal, a szükséges intézkedések végrehajtásra kerülnek, viszont az ellenőrzés folyamata hiányzi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041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FOLYAMAT- ÉS VÁLTOZÁS-MENEDZ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zt értékelték, hogy a Hivatal saját politikáját, stratégiáját, valamint az ügyfelek / állampolgárok elégedettségét szolgálva hogyan kezeli, szervezi és fejleszti saját folyamat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7080" y="3933720"/>
            <a:ext cx="3706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43, mely a PDCA ciklusban a Megvalósítás szakaszára tehető, tehát a hivatal elkészít dokumentumokat, az döntéseket hoz, de az ellenőrzésre nem fordítanak kellő figyelmet, így a nem lehet tudni, hogy a megfelelő dolgokat teszik-e a megfelelő módon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50400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ÜGYFÉLKÖZPONTÚ EREDMÉN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752120"/>
            <a:ext cx="849780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unkatársak a Hivatal által tett intézkedések eredményességét értékelték az ügyfélvisszajelzések alapjá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600200"/>
            <a:ext cx="7696080" cy="0"/>
          </a:xfrm>
          <a:prstGeom prst="line">
            <a:avLst/>
          </a:prstGeom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00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3789360"/>
            <a:ext cx="370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kritérium átlaga 57, mely a PDCA ciklus rendszerében az Ellenőrzés szakaszára tehető. A válaszok alapján az eddig mért eredmények javuló tendenciát mutatnak, és/vagy a legtöbb kitűzött cél teljesü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511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1:17:29Z</dcterms:created>
  <dc:creator>Gizus</dc:creator>
  <dc:description/>
  <dc:language>en-US</dc:language>
  <cp:lastModifiedBy>Gizella</cp:lastModifiedBy>
  <dcterms:modified xsi:type="dcterms:W3CDTF">2010-08-23T10:13:41Z</dcterms:modified>
  <cp:revision>94</cp:revision>
  <dc:subject/>
  <dc:title>A KÖZPONTI TEAM FELADATAI</dc:title>
</cp:coreProperties>
</file>